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3613-11F9-4357-97FB-39D4A21E84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F5C-7705-4559-98FC-CB6CE489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A93-7EF6-48FD-95AE-52758206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2D8-0904-4478-BD31-9E01A403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ECB-CB43-4BB4-8E03-59073A3D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027-B36F-444C-9F8C-56084CA0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4C3-13B8-4726-8393-E8E68B19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F3D-961B-4620-96C0-AF1B26E1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863-C590-422A-85A2-21AF7C4F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E16-25D2-4F33-9147-1FCC8777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7BF-5C4E-4EAF-A1EB-C7E32D92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CC5-8FAD-4770-A887-5CCAEB5F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3FB-A348-47F0-8699-6E12D170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F291-894F-4E7B-BA1B-402BAA59B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18288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666880" y="1066680"/>
            <a:ext cx="3552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40384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505320" y="1371600"/>
            <a:ext cx="2171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0" y="2362320"/>
            <a:ext cx="1053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62120" y="2666880"/>
            <a:ext cx="8001000" cy="381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762120" y="5105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2514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4800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93432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1043280" y="278460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650680" y="33940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937760" y="3394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991560" y="33940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44840" y="43848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823680" y="5222880"/>
            <a:ext cx="13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2652480" y="4384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5167080" y="430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7072560" y="430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2881440" y="5603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5167440" y="545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7072560" y="552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V="1">
            <a:off x="838080" y="3276360"/>
            <a:ext cx="79250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7000" y="2403360"/>
            <a:ext cx="877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4114800" y="4572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048120" y="1371600"/>
            <a:ext cx="3485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11800" y="2327400"/>
            <a:ext cx="80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4038480" y="3429000"/>
            <a:ext cx="2438640" cy="990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3733920" y="5105520"/>
            <a:ext cx="1600200" cy="1523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6858000" y="0"/>
            <a:ext cx="2057400" cy="1371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219320" y="3200400"/>
            <a:ext cx="18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685800" y="3048120"/>
            <a:ext cx="2438280" cy="2057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974880" y="3317760"/>
            <a:ext cx="205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403520" y="34704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62120" y="380880"/>
            <a:ext cx="1904760" cy="1752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762120" y="5410080"/>
            <a:ext cx="2133360" cy="1143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050480" y="55278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7010280" y="3429000"/>
            <a:ext cx="1600200" cy="1295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7146720" y="35463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7147800" y="41400"/>
            <a:ext cx="16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6651720" y="5554800"/>
            <a:ext cx="18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1128600" y="4986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3947040" y="52228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2"/>
          <p:cNvSpPr/>
          <p:nvPr/>
        </p:nvSpPr>
        <p:spPr>
          <a:xfrm>
            <a:off x="5257800" y="4876920"/>
            <a:ext cx="11430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5394240" y="4917960"/>
            <a:ext cx="9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661500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8"/>
          <p:cNvSpPr/>
          <p:nvPr/>
        </p:nvSpPr>
        <p:spPr>
          <a:xfrm>
            <a:off x="7010280" y="4952880"/>
            <a:ext cx="1828800" cy="1905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7299000" y="514656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28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1030"/>
          <p:cNvSpPr txBox="1"/>
          <p:nvPr/>
        </p:nvSpPr>
        <p:spPr>
          <a:xfrm>
            <a:off x="289548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1031"/>
          <p:cNvSpPr/>
          <p:nvPr/>
        </p:nvSpPr>
        <p:spPr>
          <a:xfrm>
            <a:off x="533520" y="20574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1066680" y="3048120"/>
            <a:ext cx="723924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3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34"/>
          <p:cNvSpPr/>
          <p:nvPr/>
        </p:nvSpPr>
        <p:spPr>
          <a:xfrm>
            <a:off x="335268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35"/>
          <p:cNvSpPr/>
          <p:nvPr/>
        </p:nvSpPr>
        <p:spPr>
          <a:xfrm>
            <a:off x="5867280" y="304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7"/>
          <p:cNvSpPr/>
          <p:nvPr/>
        </p:nvSpPr>
        <p:spPr>
          <a:xfrm>
            <a:off x="1203120" y="3165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8"/>
          <p:cNvSpPr/>
          <p:nvPr/>
        </p:nvSpPr>
        <p:spPr>
          <a:xfrm>
            <a:off x="3489840" y="32418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39"/>
          <p:cNvSpPr/>
          <p:nvPr/>
        </p:nvSpPr>
        <p:spPr>
          <a:xfrm>
            <a:off x="62485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1028"/>
          <p:cNvSpPr txBox="1"/>
          <p:nvPr/>
        </p:nvSpPr>
        <p:spPr>
          <a:xfrm>
            <a:off x="3733920" y="4572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1029"/>
          <p:cNvSpPr txBox="1"/>
          <p:nvPr/>
        </p:nvSpPr>
        <p:spPr>
          <a:xfrm>
            <a:off x="23623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516960" y="2068560"/>
            <a:ext cx="6843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2819520" y="1295280"/>
            <a:ext cx="39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electricit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36560" y="2327400"/>
            <a:ext cx="811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028"/>
          <p:cNvSpPr txBox="1"/>
          <p:nvPr/>
        </p:nvSpPr>
        <p:spPr>
          <a:xfrm>
            <a:off x="3962520" y="38088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5" name="WordArt 1029"/>
          <p:cNvSpPr txBox="1"/>
          <p:nvPr/>
        </p:nvSpPr>
        <p:spPr>
          <a:xfrm>
            <a:off x="25909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203040" y="2479680"/>
            <a:ext cx="839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5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3200400" y="1219320"/>
            <a:ext cx="2790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59880" y="2174760"/>
            <a:ext cx="84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838080" y="4114800"/>
            <a:ext cx="792504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93160" y="40798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98560" y="446076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22600" y="4994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762120" y="5562720"/>
            <a:ext cx="807696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893160" y="5527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0133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976680" y="5908680"/>
            <a:ext cx="58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2362320" y="1295280"/>
            <a:ext cx="4105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 cont`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97840" y="2022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38080" y="2743200"/>
            <a:ext cx="7315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63080" y="324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1148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2819520" y="10666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1828800"/>
            <a:ext cx="847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320040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41360" y="1981080"/>
            <a:ext cx="83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438280" y="3886200"/>
            <a:ext cx="4191120" cy="2133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2438280" y="31237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80988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5486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715000" y="31240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388620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38862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486400" y="4419720"/>
            <a:ext cx="5335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971800" y="4495680"/>
            <a:ext cx="76212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6705720" y="4876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7680240" y="4689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 flipV="1">
            <a:off x="6172200" y="28954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7301160" y="27082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4267080" y="6095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015160" y="6060960"/>
            <a:ext cx="8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 flipH="1" flipV="1">
            <a:off x="144792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137880" y="43848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5" name="WordArt 5"/>
          <p:cNvSpPr txBox="1"/>
          <p:nvPr/>
        </p:nvSpPr>
        <p:spPr>
          <a:xfrm>
            <a:off x="327672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05920" y="2327400"/>
            <a:ext cx="91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30200" y="2098800"/>
            <a:ext cx="859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052"/>
          <p:cNvSpPr txBox="1"/>
          <p:nvPr/>
        </p:nvSpPr>
        <p:spPr>
          <a:xfrm>
            <a:off x="4038480" y="304920"/>
            <a:ext cx="14004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1" name="WordArt 2053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2054"/>
          <p:cNvSpPr/>
          <p:nvPr/>
        </p:nvSpPr>
        <p:spPr>
          <a:xfrm>
            <a:off x="827640" y="209880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56"/>
          <p:cNvSpPr/>
          <p:nvPr/>
        </p:nvSpPr>
        <p:spPr>
          <a:xfrm>
            <a:off x="508680" y="2860560"/>
            <a:ext cx="83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1028"/>
          <p:cNvSpPr txBox="1"/>
          <p:nvPr/>
        </p:nvSpPr>
        <p:spPr>
          <a:xfrm>
            <a:off x="3962520" y="304920"/>
            <a:ext cx="1342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5" name="WordArt 1029"/>
          <p:cNvSpPr txBox="1"/>
          <p:nvPr/>
        </p:nvSpPr>
        <p:spPr>
          <a:xfrm>
            <a:off x="3276720" y="1371600"/>
            <a:ext cx="274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1030"/>
          <p:cNvSpPr/>
          <p:nvPr/>
        </p:nvSpPr>
        <p:spPr>
          <a:xfrm>
            <a:off x="661680" y="2479680"/>
            <a:ext cx="804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1"/>
          <p:cNvSpPr/>
          <p:nvPr/>
        </p:nvSpPr>
        <p:spPr>
          <a:xfrm>
            <a:off x="3505320" y="4191120"/>
            <a:ext cx="4572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32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33"/>
          <p:cNvSpPr/>
          <p:nvPr/>
        </p:nvSpPr>
        <p:spPr>
          <a:xfrm flipH="1">
            <a:off x="1980720" y="51814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4"/>
          <p:cNvSpPr/>
          <p:nvPr/>
        </p:nvSpPr>
        <p:spPr>
          <a:xfrm>
            <a:off x="569988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6"/>
          <p:cNvSpPr/>
          <p:nvPr/>
        </p:nvSpPr>
        <p:spPr>
          <a:xfrm>
            <a:off x="82296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37"/>
          <p:cNvSpPr/>
          <p:nvPr/>
        </p:nvSpPr>
        <p:spPr>
          <a:xfrm flipV="1">
            <a:off x="3733920" y="4495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38"/>
          <p:cNvSpPr/>
          <p:nvPr/>
        </p:nvSpPr>
        <p:spPr>
          <a:xfrm>
            <a:off x="5316840" y="423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3124080" y="1295280"/>
            <a:ext cx="2657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7360" y="2251080"/>
            <a:ext cx="836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2438280" y="1066680"/>
            <a:ext cx="4038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82480" y="1870200"/>
            <a:ext cx="751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51360" y="2022480"/>
            <a:ext cx="831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38862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21747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30560" y="2784600"/>
            <a:ext cx="82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66680" y="3429000"/>
            <a:ext cx="274320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066680" y="3505320"/>
            <a:ext cx="27432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05228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066680" y="35053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020480" y="331776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26600" y="4156200"/>
            <a:ext cx="818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rc 4"/>
          <p:cNvSpPr/>
          <p:nvPr/>
        </p:nvSpPr>
        <p:spPr>
          <a:xfrm flipH="1" rot="10800000">
            <a:off x="571392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5"/>
          <p:cNvSpPr/>
          <p:nvPr/>
        </p:nvSpPr>
        <p:spPr>
          <a:xfrm>
            <a:off x="91440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7"/>
          <p:cNvSpPr/>
          <p:nvPr/>
        </p:nvSpPr>
        <p:spPr>
          <a:xfrm>
            <a:off x="914400" y="259092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rc 8"/>
          <p:cNvSpPr/>
          <p:nvPr/>
        </p:nvSpPr>
        <p:spPr>
          <a:xfrm flipV="1">
            <a:off x="5715000" y="2666880"/>
            <a:ext cx="1979640" cy="144792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2438280" y="1219320"/>
            <a:ext cx="40388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175212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05228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2514600" y="25142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108960" y="23274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70866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7453080" y="423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7"/>
          <p:cNvSpPr/>
          <p:nvPr/>
        </p:nvSpPr>
        <p:spPr>
          <a:xfrm flipH="1" flipV="1">
            <a:off x="66294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6309360" y="2860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194560" y="3851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5014440" y="430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663840" y="476568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028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1029"/>
          <p:cNvSpPr txBox="1"/>
          <p:nvPr/>
        </p:nvSpPr>
        <p:spPr>
          <a:xfrm>
            <a:off x="2819520" y="12952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457200" y="228600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905120" y="129528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61320" y="2174760"/>
            <a:ext cx="821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1828800" y="114300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33920" y="2174760"/>
            <a:ext cx="7785360" cy="2654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VE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198108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08360" y="2174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890640" y="3013200"/>
            <a:ext cx="753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752480" y="1219320"/>
            <a:ext cx="5467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432080" y="2133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943600" y="2133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118160" y="2784600"/>
            <a:ext cx="797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579760" y="171756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AL </a:t>
            </a:r>
            <a:r>
              <a:rPr b="0" lang="en-GB" sz="4400" spc="-1" strike="noStrike">
                <a:solidFill>
                  <a:srgbClr val="03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WordArt 5"/>
          <p:cNvSpPr txBox="1"/>
          <p:nvPr/>
        </p:nvSpPr>
        <p:spPr>
          <a:xfrm>
            <a:off x="213372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20968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814680" y="2936880"/>
            <a:ext cx="829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tled gas at 20</a:t>
            </a:r>
            <a:r>
              <a:rPr b="0" lang="en-GB" sz="3200" spc="-1" strike="noStrike" baseline="24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rol at 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veh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ffin oil at 1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jets 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sel at 2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 for tr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tumen at 35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ro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indefinite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04920" y="533520"/>
            <a:ext cx="1876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eat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7315200" y="457200"/>
            <a:ext cx="1467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gh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80880" y="5715000"/>
            <a:ext cx="152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k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8077320" y="57150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981080"/>
            <a:ext cx="90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nergy photo one"/>
          <p:cNvPicPr/>
          <p:nvPr/>
        </p:nvPicPr>
        <p:blipFill>
          <a:blip r:embed="rId1"/>
          <a:stretch/>
        </p:blipFill>
        <p:spPr>
          <a:xfrm>
            <a:off x="4594320" y="380880"/>
            <a:ext cx="419724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5238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38120" y="1793880"/>
            <a:ext cx="41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4120" y="347040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40384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743200" y="114300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89920" y="2022480"/>
            <a:ext cx="783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1028"/>
          <p:cNvSpPr txBox="1"/>
          <p:nvPr/>
        </p:nvSpPr>
        <p:spPr>
          <a:xfrm>
            <a:off x="3200400" y="304920"/>
            <a:ext cx="30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ypes of heat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1030"/>
          <p:cNvSpPr/>
          <p:nvPr/>
        </p:nvSpPr>
        <p:spPr>
          <a:xfrm>
            <a:off x="693720" y="1695600"/>
            <a:ext cx="4923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Oval 6"/>
          <p:cNvSpPr/>
          <p:nvPr/>
        </p:nvSpPr>
        <p:spPr>
          <a:xfrm>
            <a:off x="2743200" y="2743200"/>
            <a:ext cx="4343400" cy="3657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87692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2742840" y="419076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2666520" y="4876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3733560" y="48769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489840" y="33940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566880" y="385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2805840" y="4384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3338280" y="4384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2880360" y="4842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186000" y="522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242320" y="369900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6"/>
          <p:cNvSpPr/>
          <p:nvPr/>
        </p:nvSpPr>
        <p:spPr>
          <a:xfrm flipV="1">
            <a:off x="6019920" y="27428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69343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172200" y="58672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9"/>
          <p:cNvSpPr/>
          <p:nvPr/>
        </p:nvSpPr>
        <p:spPr>
          <a:xfrm flipH="1" flipV="1">
            <a:off x="2742840" y="2819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14479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1"/>
          <p:cNvSpPr/>
          <p:nvPr/>
        </p:nvSpPr>
        <p:spPr>
          <a:xfrm flipH="1">
            <a:off x="2057040" y="56386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2209680"/>
            <a:ext cx="949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09:58Z</dcterms:created>
  <dc:creator>Physics Department</dc:creator>
  <dc:description/>
  <dc:language>en-US</dc:language>
  <cp:lastModifiedBy>RomaK</cp:lastModifiedBy>
  <dcterms:modified xsi:type="dcterms:W3CDTF">2015-09-03T12:25:36Z</dcterms:modified>
  <cp:revision>48</cp:revision>
  <dc:subject/>
  <dc:title>PowerPoint Presentation</dc:title>
</cp:coreProperties>
</file>